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B556F-ACA7-4363-9225-23403D662A64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ARPA is an agency of the United States Department of Defense responsible for the new technology development for use by the military. 19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The initial purpose is to find ways to address the US military’s concern about survivability of their communication networ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In 1970s ARPANET became the foundation of today’s interne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Vinton Cerf and Robert Kahn developed the first description of TCP during 1973, and then in May 1974 the first formal description was publish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35D31-4554-48F8-B41F-266D94D04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05835-2E7A-4167-BF31-C0E5C04D7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39330-AF00-4F82-8693-34865E77A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7BF64-3BA6-483B-B022-99EF62B05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EA76D-8620-45FE-89A8-01A791327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1E361-1C1A-4171-AC40-980BBD56E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76724-2119-45BD-B8D4-EBF91B541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3C6EF-69A2-4303-A80A-93F4B1B90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79436-E797-48DC-9E37-8F2EA72B1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52BDE-C175-4C58-A071-3197E03CA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DC5AC-B1ED-445B-BA35-3E3317883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766C8-D33D-4392-9CE1-C63D6D0B4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0ACB0-23A7-44AA-B3C8-7B2FDFD8E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1AF77-FF66-492B-A165-4E110FE4F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5013D-A10E-4EF3-8264-66CAF62B2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E0822-E6CB-4462-AF48-83E8183E5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1A441-9BDA-452F-9EDC-C9BD811B4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5C38C-FB04-4D6D-88BB-29C6239D7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4394B-B3A7-4CD6-97F4-C07F473C9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084C0-F14E-4631-A46A-6F16BA927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6CD5D-F276-41DE-8FC0-20D90218C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3CE34-AA9E-4C95-B804-F1A2B8045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9DBD3-E840-4039-80A2-3C4DC0075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101CA-FF0E-4348-BF59-5420A7104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47897-F2D2-4389-B103-5964094B919E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5555B-6A13-4A82-B3B8-53B6C0FDE0B0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003366"/>
                </a:solidFill>
                <a:latin typeface="Arial"/>
              </a:rPr>
              <a:t>Internet</a:t>
            </a:r>
            <a:endParaRPr b="1" lang="en-US" sz="5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6666"/>
                </a:solidFill>
                <a:latin typeface="Arial"/>
              </a:rPr>
              <a:t>By 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6666"/>
                </a:solidFill>
                <a:latin typeface="Arial"/>
              </a:rPr>
              <a:t>Pablo, Duy and Tao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703A7-D32F-45F9-A392-A5BAFA3BDE5C}" type="datetime">
              <a:rPr b="0" lang="en-US" sz="2800" spc="-1" strike="noStrike">
                <a:solidFill>
                  <a:srgbClr val="006666"/>
                </a:solidFill>
                <a:latin typeface="Arial"/>
              </a:rPr>
              <a:t>07/29/26</a:t>
            </a:fld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Internet Introduc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ternet Histor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RPA (Advanced Research Project Agency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e Foundation of Interne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RPANE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CP (Transmission Control Protocol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nternet”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gend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ternet Introduc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odern us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ocial impac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Modern Us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3366"/>
                </a:solidFill>
                <a:latin typeface="Arial"/>
              </a:rPr>
              <a:t>ACOUNT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3366"/>
                </a:solidFill>
                <a:latin typeface="Arial"/>
              </a:rPr>
              <a:t>E-COMMER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ocial Impac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nclus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n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971640" y="3716280"/>
            <a:ext cx="6541920" cy="214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HANK YOU FOR LISTENING!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=.=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6051600" y="0"/>
            <a:ext cx="2913120" cy="37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0T10:15:27Z</dcterms:created>
  <dc:creator>Microsoft</dc:creator>
  <dc:description/>
  <dc:language>en-US</dc:language>
  <cp:lastModifiedBy>Test User</cp:lastModifiedBy>
  <dcterms:modified xsi:type="dcterms:W3CDTF">2010-05-11T00:09:58Z</dcterms:modified>
  <cp:revision>16</cp:revision>
  <dc:subject/>
  <dc:title>Internet</dc:title>
</cp:coreProperties>
</file>